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03EC4-14C9-48B5-94F2-083C3D51A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B6C52-0D26-42B1-984C-56991DFFE14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7FEA-54E3-4AE8-BCA1-305C5484D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0F51-3EBF-4D73-A950-310F7FC6E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5505-55AE-4DF1-81F8-4B07E72C9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7536-4CD1-4503-9143-3CBA81387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8F15D-19B0-4BBE-A23B-D063242D3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2CCBA-3167-494A-8C9B-C92406EF0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B259A-47F1-4CBF-943F-B509DA210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93169-F840-4807-B69D-BEC855880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22B90-EADB-414E-ADE1-68C8F62FE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7D776-949B-471E-A4B1-921FC331B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A3769-762D-49ED-989B-D92D2CF7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D84D-3F41-4107-8F27-C18D51501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7157F-3E69-48B9-9412-9D705F14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635B7-69C2-4CF5-8B86-E419ADC0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5D4F3-B22D-46BD-B780-80DA1FA24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5F4E6-0753-49A5-96EE-105D6DE60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20284-321A-402B-85AD-7906C2CF5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C8F4-04D0-41B0-9A59-D7743E749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D6FB-07DB-4B66-BCF5-D0EF24752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E6C7-5F05-426C-BE30-278699F42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B3BB-2869-4B1F-943D-A64CAB6B3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2B67-66C4-4AD4-AEAD-D661BE19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EB42-9EF4-48E2-BDAA-9D9577CD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56AE-7B59-4EC1-BC76-93DE4F7D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6959D-430B-46B8-BBE6-D6FC42D14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2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4191C-4E8C-4150-ABA5-58B89B1169A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228600" y="228600"/>
            <a:ext cx="8686800" cy="20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rida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"/>
          <p:cNvSpPr/>
          <p:nvPr/>
        </p:nvSpPr>
        <p:spPr>
          <a:xfrm>
            <a:off x="2209680" y="5195880"/>
            <a:ext cx="426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4/23/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2971800"/>
            <a:ext cx="7467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½ Day AM Substitute TOY Intervie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oday’s Agend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600200"/>
            <a:ext cx="731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arm-Up: Prepare for Quiz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lasswork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nergy Quiz 1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mplete Energy Story &amp; Source Assessm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ead and Answer Questions in BGE: Exploring Your Environment Magazine (students may keep!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Homework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ONE!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nclusion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ONE!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udent Objective</a:t>
            </a:r>
            <a:br>
              <a:rPr sz="3600"/>
            </a:br>
            <a:fld id="{05B7BFAA-6C1A-40AA-B5E4-03E6A188CA56}" type="datetime2">
              <a:rPr b="1" lang="en-US" sz="1800" spc="-1" strike="noStrike">
                <a:solidFill>
                  <a:srgbClr val="006666"/>
                </a:solidFill>
                <a:latin typeface="Arial"/>
              </a:rPr>
              <a:t>Wednesday, July 29, 2026</a:t>
            </a:fld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31664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Verdana"/>
              </a:rPr>
              <a:t>Students will be able to…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Verdana"/>
              </a:rPr>
              <a:t>Identify, describe, and provide examples of several different forms of energy.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Verdana"/>
              </a:rPr>
              <a:t>Key Question 18…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Verdana"/>
              </a:rPr>
              <a:t>What is energy and how is it passed from one thing to another?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43000" y="763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cc33"/>
                </a:solidFill>
                <a:latin typeface="Times New Roman"/>
              </a:rPr>
              <a:t>HOMEWOR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0440" y="1559520"/>
            <a:ext cx="86868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200" spc="-1" strike="noStrike">
                <a:solidFill>
                  <a:srgbClr val="000000"/>
                </a:solidFill>
                <a:latin typeface="Times New Roman"/>
              </a:rPr>
              <a:t>NONE!!!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200400" y="4876920"/>
            <a:ext cx="2712960" cy="14475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6324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py daily </a:t>
            </a:r>
            <a:r>
              <a:rPr b="0" lang="en-US" sz="2400" spc="-1" strike="noStrike">
                <a:solidFill>
                  <a:srgbClr val="33cc33"/>
                </a:solidFill>
                <a:latin typeface="Tahoma"/>
              </a:rPr>
              <a:t>homewor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o your agen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1295280"/>
            <a:ext cx="8763120" cy="3276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19:01:00Z</dcterms:created>
  <dc:creator>CCPS</dc:creator>
  <dc:description/>
  <dc:language>en-US</dc:language>
  <cp:lastModifiedBy>CCPS</cp:lastModifiedBy>
  <dcterms:modified xsi:type="dcterms:W3CDTF">2010-04-22T19:02:28Z</dcterms:modified>
  <cp:revision>2</cp:revision>
  <dc:subject/>
  <dc:title>Slide 1</dc:title>
</cp:coreProperties>
</file>